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061-EBA4-427D-BFCA-968A31EA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EE0-266A-4777-9550-1020DAD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E2F-B65E-46A7-A457-6DA5349E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81B-7051-42B6-921C-A765113E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A6C3-2004-46D8-803A-00D66DEE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CCB4-8C12-4CA4-9D9A-CCE37450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373B-D563-41B2-8BBA-2CAEB8F0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43B0-2BB5-4851-BF54-36D9AF9C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CCB8-4AFB-4BD2-8D28-547A471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DDB-42F4-460B-8DA6-7FCB4C81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51A3-1FD1-4C4D-8929-892E9A3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E06-7D73-44B6-9549-36A50FA2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6444-B4BF-48C9-B8BB-E76701AA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591-1E5F-4354-B441-054FB97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C5C6-E61E-4E2A-9B62-B8A23B1F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A7C-1904-405B-A231-6B4F27B1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0013-F112-4A2E-AC2A-524BC66D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066-6B57-403B-91BE-941400F1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DDC-C306-44E7-A044-3DC1E9C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4AE-F734-4228-A851-7C56D78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E77-0073-46E7-B953-06EC3A66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71C-A4CC-4842-BDB3-524C1F79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03E-F5C9-460B-85BA-651C2A2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46A-E441-49E2-8D3F-5BB9188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FF1-543F-4B62-B102-BBFFB3F0E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F13F-28F2-45A8-B043-CB9AEC3B1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ra.co.uk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600"/>
            </a:b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Research eth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ethical 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form write down example of unethical practice and the reasons why you think they are 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ke your Ethics committee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1                  proposal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2                  proposal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3                  proposal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 name to your group, discuss your proposal and grade it from 1 to 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5 is very ethical and 1 very un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99564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399564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3995640" y="364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thical considerations are important throughout the whole process of the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Researchers have to weigh up  the possible benefits of their study and the possible harm caused to all parties involv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motional, financial physical, psychological ham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Ethics committe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Educational Research Association -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bera.co.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case description and answer to the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importance of ethics i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apply ethic to research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review ethics in other people’s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know what is……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al jud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h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giar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 this ethical behaviou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Group 1 read “</a:t>
            </a:r>
            <a:r>
              <a:rPr b="0" i="1" lang="en-US" sz="3000" spc="-1" strike="noStrike">
                <a:solidFill>
                  <a:srgbClr val="ff99ff"/>
                </a:solidFill>
                <a:latin typeface="Arial"/>
              </a:rPr>
              <a:t>Simpl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Group 2 read</a:t>
            </a:r>
            <a:r>
              <a:rPr b="0" i="1" lang="en-US" sz="3000" spc="-1" strike="noStrike">
                <a:solidFill>
                  <a:srgbClr val="00b050"/>
                </a:solidFill>
                <a:latin typeface="Arial"/>
              </a:rPr>
              <a:t> “ Intermediat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Arial"/>
              </a:rPr>
              <a:t>Group 3 read</a:t>
            </a:r>
            <a:r>
              <a:rPr b="0" i="1" lang="en-US" sz="3000" spc="-1" strike="noStrike">
                <a:solidFill>
                  <a:srgbClr val="00b0f0"/>
                </a:solidFill>
                <a:latin typeface="Arial"/>
              </a:rPr>
              <a:t> “ Advanced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k yoursel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How would children feel if no one picks them as frie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Are children sincere in their choice or copy 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Should this data collection occu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Is this cruel to monkey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Does the end justify the mea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ecret came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howing violence even to a do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Should these types of experiments be allow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99"/>
                </a:solidFill>
                <a:latin typeface="Arial"/>
              </a:rPr>
              <a:t>Eth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ral principals that control a person’s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Ethical judgm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rally correct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Arial"/>
              </a:rPr>
              <a:t>Informed cons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ing consent from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Confidential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ing information only for the purpos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onym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revealing the identity of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Arial"/>
              </a:rPr>
              <a:t>Absence of har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harming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Decep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dishonest about true intention to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Plagiaris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ing data of others without con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ff"/>
                </a:solidFill>
                <a:latin typeface="Arial"/>
              </a:rPr>
              <a:t>Storage dat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 data for other occasion and purpo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ing principles for ethical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Respect of participants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 (privacy, culture, personal dign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Respects of the participants’ rights</a:t>
            </a: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 (protection from harm, be fully informed on the purpose of the research and to be listen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est outcomes</a:t>
            </a: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 (promote best outcomes/benefits for participan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ethical intervi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going to interview grade 7 boys about fighting in the playgrou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what you would say to them to ensure that the interview will be 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it first without template and than compare it with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3:50:00Z</dcterms:created>
  <dc:creator>user</dc:creator>
  <dc:description/>
  <dc:language>en-US</dc:language>
  <cp:lastModifiedBy>Lorenza Innocenti</cp:lastModifiedBy>
  <dcterms:modified xsi:type="dcterms:W3CDTF">2008-05-25T08:03:42Z</dcterms:modified>
  <cp:revision>8</cp:revision>
  <dc:subject/>
  <dc:title>Course: Fundamentals of Research</dc:title>
</cp:coreProperties>
</file>